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C7BA-1A78-42AB-86DC-3274817F8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1C6B-94A2-442C-B7AB-27BAD072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F55A-803A-4AFC-B309-CAB6EB52B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B219-D3EC-49AA-9EFD-9F6CEAE5F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5C8A-53DB-4485-AAA2-61FE700AA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308E-4AB9-4AC2-BD20-4F74241FC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010-FE73-4B2C-841A-3F5A6A60C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B3BE-0414-4363-958A-64913922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BBD-2793-4E1D-8DE7-4C03A560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ED7-0A3E-4CD7-87ED-F0642E00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DA6-7776-4FB7-A09D-70BE307A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6CB-75A8-447E-8AA6-2B1DD8DD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8D6-20ED-4428-B33E-095BABCA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EF3-8001-479C-B471-39C5B7CB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E1E-8E47-4B18-A1A2-20FE0221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307-F2D2-4628-A925-8D57CAC9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741-DD04-4A29-AC2F-E3706597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327-C4F0-4301-8875-3322C01C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A60-92C8-42E4-8E5B-7370AB47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48A-1070-484D-A536-51ABC5E2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2E6B-6C3C-4AD1-B309-DB3ECEE72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kype.com/" TargetMode="External"/><Relationship Id="rId2" Type="http://schemas.openxmlformats.org/officeDocument/2006/relationships/hyperlink" Target="http://www.skype.com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ropbox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pearsonsuccessnet.com/snpapp/login/login.jsp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dia.emgames.com/emgames/demosite/demolevel1.html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dnL00TdmLY" TargetMode="External"/><Relationship Id="rId2" Type="http://schemas.openxmlformats.org/officeDocument/2006/relationships/image" Target="../media/image5.gif"/><Relationship Id="rId3" Type="http://schemas.openxmlformats.org/officeDocument/2006/relationships/hyperlink" Target="http://www.wikispaces.com/user/my/tmpetty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oicethread.com/" TargetMode="External"/><Relationship Id="rId2" Type="http://schemas.openxmlformats.org/officeDocument/2006/relationships/hyperlink" Target="http://voicethread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iratepad.com/" TargetMode="External"/><Relationship Id="rId2" Type="http://schemas.openxmlformats.org/officeDocument/2006/relationships/hyperlink" Target="http://www.piratepad.net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Technology Tools with Colleagues, Students and Par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83229"/>
                </a:solidFill>
                <a:latin typeface="Times New Roman"/>
              </a:rPr>
              <a:t>Staci Block, Ed.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83229"/>
                </a:solidFill>
                <a:latin typeface="Times New Roman"/>
              </a:rPr>
              <a:t>Coordinator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83229"/>
                </a:solidFill>
                <a:latin typeface="Times New Roman"/>
              </a:rPr>
              <a:t>Curriculum, Instruction, and Continuou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83229"/>
                </a:solidFill>
                <a:latin typeface="Times New Roman"/>
              </a:rPr>
              <a:t>Ventura County Office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lowchart: Document 3"/>
          <p:cNvSpPr/>
          <p:nvPr/>
        </p:nvSpPr>
        <p:spPr>
          <a:xfrm>
            <a:off x="14400" y="0"/>
            <a:ext cx="9129600" cy="1143000"/>
          </a:xfrm>
          <a:prstGeom prst="flowChartDocumen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Skype?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kype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ftware application that allows users to make voice calls over the Intern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can be made using the Skype service to other users of Sk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to traditional landline telephones and cell phones can be made for a f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295280"/>
            <a:ext cx="792468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Dropbox?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dropbox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ftware application that allows users to share documents, video, and pho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opbox is a fre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llaborativ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allwisher.com – create a wall; add sticky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flickr.com – create an account; share photos with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docs.google.com – create an account; share documents with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pple.com/icloud/what-is.html - Mac version of dropbox, coming this Fall 5GB free of virtual storag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llaborativ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icasaweb.google.com – create an account; store and share photos; create slidesh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tikatok.com/ - create story book and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dipity.com – collaborative timeline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rezi.com - unique type of powerpoint presentation on-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llaborativ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21things4teachers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s we will answer during this presen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llaborative online tools are available and what do they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I access thes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I begin using thes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I use these tools to collaborate with colleagu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I use these tools to collaborate with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I use these tools to collaborate with par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073520" y="844560"/>
            <a:ext cx="61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 M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pearsonsuccessnet.com/snpapp/login/login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66294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11240" y="844560"/>
            <a:ext cx="8065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day Mathema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media.emgames.com/emgames/demosite/demolevel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2514600" cy="179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2971800" cy="169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4648320" y="2438280"/>
            <a:ext cx="33526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Wik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Program Files\Microsoft Expression\MEDIA\CAGCAT10\j030052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4267080"/>
            <a:ext cx="228132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34136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VoiceThread?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voicethread.c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oiceThread is a collaborative, multimedia slide show that holds images, documents, and videos and allows people to navigate slides and leave comments in five different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VoiceThread, group conversations are collected and shared in one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oftware installation i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PiratePad?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piratepad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aborative tool that is used to share information via tex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ers can collaborate on one document instantane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oftware installation is requi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447920"/>
            <a:ext cx="8076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04:02:23Z</dcterms:created>
  <dc:creator>Staci Erlandson</dc:creator>
  <dc:description/>
  <dc:language>en-US</dc:language>
  <cp:lastModifiedBy>vcsso</cp:lastModifiedBy>
  <dcterms:modified xsi:type="dcterms:W3CDTF">2011-08-11T20:05:41Z</dcterms:modified>
  <cp:revision>1</cp:revision>
  <dc:subject/>
  <dc:title>Using Technology Tools with Colleagues, Students and Parents</dc:title>
</cp:coreProperties>
</file>